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27DE9-D211-4B97-AD2B-071B87E53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14CD3-C52C-419C-9D7C-BCB43ABFD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936C9-B635-4C0B-9DF8-E8E0B923E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0535A-D8D8-47A1-AAD3-FAA7FD9EE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852B6-94D0-48EE-ACCE-EAC60E35F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9BF5E-13A4-4E5E-97FF-605F7CB4F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90C4F-EDA1-4B37-9010-1531EE8B1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20D-B0D3-486E-8981-5DED489B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C79-D82B-4A23-B3B7-DCEFE9F9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A09-1353-4BEC-A894-E4B752E6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822-D64C-43D3-A37A-0B01BED3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5DE-2A24-41D6-8396-F508DB0A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454-3A27-4F06-B9A7-2B97B348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239-CD50-401C-824B-AB279C9C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FDC-CE50-4F0C-BB8A-237E4289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79C-3862-4A01-B69C-7F5FA0FC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036-5A34-4007-8585-319FC911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D5F-AA3F-471E-A3CD-D6444A1D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A2D-F8E3-43A6-8A8D-02E734E9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09E11-DCAF-44D5-9AE8-67E00C9D0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886932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cture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in simple dat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tions between databases and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3280" y="4571640"/>
            <a:ext cx="9097920" cy="214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Tammet, T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lational db table and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d     name   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john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 pete       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1,john,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2,pete,-2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.name, client.bal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rom client  where  balance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I,N,B) &amp; B&lt;0 -&gt; answer(N,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? answer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lient table:                                     Cars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d     name    balance             id    model  ow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1      john      100                   1      ford     1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2      pete       -200                 2      opel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3      saab    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lect client.name,cars.model from client, cars where client.id=cars.ow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I,N,B)   &amp; model(J,M,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-&gt;  ans(N,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presenting complex structures in relational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3000"/>
          </a:bodyPr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+(*(1,2.5)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d   op  a1   t1    a2  t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*     2    D      1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+    1     T      3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Data:     varchar  typ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“2.5” 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“1”   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3      “3”       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pecial relational db gadg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ull:   null values in two different locations are never equal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1,jaan,null)  and car(1,opel,null) then null in client is not equal to null in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ists X. client(1,jaan,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ists X. car(1,opel,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gad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47000"/>
          </a:bodyPr>
          <a:p>
            <a:pPr marL="160920" indent="-160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d   name 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1     jan   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2     pete   -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 TABLE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PRIMARY KEY (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.name(1)=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.name(2)=p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.balance(1)=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ultiple r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yments: no prima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 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 5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yments(1,100)  …. payments(1,100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Open versus clos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assical logic is op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We know N facts. We do NOT say that only these N facts hold: maybe there are M more facts which are true but which we do not k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 databases we normally assume that world is closed (minus errors): all we clients are in our database. All their payments are in our databas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of 1st order predicat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of data i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as predicates: straightforward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and joins a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objects and features: multiple rows, 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structures in db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keys as a way to encod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1: pro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 fontScale="99000"/>
          </a:bodyPr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jan,pe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jan,mart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tin,mat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frank,ma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ther(mary,mik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:- father(X,Y), father(Y,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:- father(X,Y), mother(Y,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ueri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father(martin,mi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father(jan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grandfather(X,mi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(jim,p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all X,Y (bother(X,Y) =&gt; brother(Y,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all X,Y (brother(X,Y) =&gt; man(X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: ma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man(jim), man(p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wi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pete)=j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tin)=ja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tt)=mart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y)=fr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ther(mike)=m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&lt;- father(Y)=X &amp; father(Z)=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andfather(father(father(X)),X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&lt;- father(Y)=X &amp; mother(Z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andfather(father(mother(X)),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logic have no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p1)=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1)=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2)=m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3)=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(m4)=m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m(X,Z) &lt;- foo(Y)=X &amp; foo(Z)=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m(foo(foo(X)),X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m(X,Z) &lt;- foo(Y)=X &amp; bar(Z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m(foo(bar(X)),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aning of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elations give meaning t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hat about = ??  father(john)=pete then just replac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hree basic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Y) -&gt; e(Y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Y) &amp; e(Y,Z) -&gt; e(X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amples: parallel lines, &gt;=,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aning of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ubstitution rules of equa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Y)  &amp; father(X,Z)  -&gt;  father(Y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Y)  &amp; father(Z,X)  -&gt;  father(Z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Y)  &amp; e(father(X),Z) -&gt; e(father(Y)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c for all predicates and functions we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Built-in procedures for relations and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rithmetics + * etc: procedural attachments (procedural data re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ring, list, date, file etc etc proc attac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5:51Z</dcterms:created>
  <dc:creator>Tanel Tammet</dc:creator>
  <dc:description/>
  <dc:language>en-US</dc:language>
  <cp:lastModifiedBy>Department of Informatics</cp:lastModifiedBy>
  <dcterms:modified xsi:type="dcterms:W3CDTF">2011-02-07T11:44:31Z</dcterms:modified>
  <cp:revision>18</cp:revision>
  <dc:subject/>
  <dc:title>Knowledge representation  lecture 2   Plain simple data:  relations between databases and logic</dc:title>
</cp:coreProperties>
</file>